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gif" ContentType="image/gif"/>
  <Override PartName="/ppt/media/image10.jpeg" ContentType="image/jpeg"/>
  <Override PartName="/ppt/media/image7.jpeg" ContentType="image/jpeg"/>
  <Override PartName="/ppt/media/image11.png" ContentType="image/png"/>
  <Override PartName="/ppt/media/image8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396D6B-E359-4045-8C12-0E3FE4F60DF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142920"/>
            <a:ext cx="747396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3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4128840"/>
            <a:ext cx="7383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B78CB9-8CD3-4659-8D20-A354A46B04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142920"/>
            <a:ext cx="747396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288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6760" y="1598760"/>
            <a:ext cx="360288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4128840"/>
            <a:ext cx="360288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6760" y="4128840"/>
            <a:ext cx="360288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637E29-A246-4297-8D55-9250B8E59B0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142920"/>
            <a:ext cx="747396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744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120" y="1598760"/>
            <a:ext cx="237744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7080" y="1598760"/>
            <a:ext cx="237744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4128840"/>
            <a:ext cx="237744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120" y="4128840"/>
            <a:ext cx="237744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7080" y="4128840"/>
            <a:ext cx="237744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EDBB91-6D97-445C-94E9-1F2C4619E3C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FA4B97-F75E-41CA-99B6-E1A04CD970F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142920"/>
            <a:ext cx="747396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3600" cy="48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FAC966-9579-4BDB-BE15-47A4033407E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142920"/>
            <a:ext cx="747396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36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FFF6F6-AF65-4262-B42B-83D23F255A9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142920"/>
            <a:ext cx="747396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288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6760" y="1598760"/>
            <a:ext cx="360288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992A39-9B4C-475A-9476-7E943B99B10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142920"/>
            <a:ext cx="747396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F5F347-F522-42E5-8DE9-CEADC9C7F0B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142920"/>
            <a:ext cx="7473960" cy="607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5F8182-2F39-45E8-994A-246753A462E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142920"/>
            <a:ext cx="747396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288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6760" y="1598760"/>
            <a:ext cx="360288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4128840"/>
            <a:ext cx="360288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73EEC2-0F1A-4A18-AD0B-5D3A5B5CDAF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142920"/>
            <a:ext cx="747396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3600" cy="48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EAED64-05C5-4D59-BF23-6EEAA51E331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142920"/>
            <a:ext cx="747396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288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6760" y="1598760"/>
            <a:ext cx="360288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6760" y="4128840"/>
            <a:ext cx="360288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EB5E35-AE69-400F-807C-F7200740AD8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142920"/>
            <a:ext cx="747396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288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6760" y="1598760"/>
            <a:ext cx="360288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4128840"/>
            <a:ext cx="7383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2AFDB2-5D61-4A30-BE57-B6355D1A1BA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142920"/>
            <a:ext cx="747396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3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4128840"/>
            <a:ext cx="7383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FB9E36-A898-479F-9562-6B30BE7DB7E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142920"/>
            <a:ext cx="747396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288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6760" y="1598760"/>
            <a:ext cx="360288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4128840"/>
            <a:ext cx="360288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6760" y="4128840"/>
            <a:ext cx="360288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C9D5A6-0BE1-41CC-93CB-C9D9BF2E7FA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142920"/>
            <a:ext cx="747396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744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120" y="1598760"/>
            <a:ext cx="237744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7080" y="1598760"/>
            <a:ext cx="237744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4128840"/>
            <a:ext cx="237744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120" y="4128840"/>
            <a:ext cx="237744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7080" y="4128840"/>
            <a:ext cx="237744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C6AF46-B446-4C0C-A7B0-90662655C1E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142920"/>
            <a:ext cx="747396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36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CAF4C8-E28E-4953-81E5-604DF24F1B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142920"/>
            <a:ext cx="747396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288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6760" y="1598760"/>
            <a:ext cx="360288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C5D3DB-0C9B-4C36-8845-BF2DDA04E96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142920"/>
            <a:ext cx="747396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9E653C-DC8D-481F-9D8F-4A4291DDB5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142920"/>
            <a:ext cx="7473960" cy="607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55BBF9-BACB-4000-A762-0B163C6DC3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142920"/>
            <a:ext cx="747396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288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6760" y="1598760"/>
            <a:ext cx="360288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4128840"/>
            <a:ext cx="360288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BB4F76-BDD8-42C2-AFA8-4798941B4AD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142920"/>
            <a:ext cx="747396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288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6760" y="1598760"/>
            <a:ext cx="360288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6760" y="4128840"/>
            <a:ext cx="360288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9717BF-54AE-45E5-A26F-7A98B8A35D1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142920"/>
            <a:ext cx="747396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288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6760" y="1598760"/>
            <a:ext cx="360288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4128840"/>
            <a:ext cx="7383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02812A-665A-4B48-9809-7E730071BE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.xml"/><Relationship Id="rId32" Type="http://schemas.openxmlformats.org/officeDocument/2006/relationships/slideLayout" Target="../slideLayouts/slideLayout2.xml"/><Relationship Id="rId33" Type="http://schemas.openxmlformats.org/officeDocument/2006/relationships/slideLayout" Target="../slideLayouts/slideLayout3.xml"/><Relationship Id="rId34" Type="http://schemas.openxmlformats.org/officeDocument/2006/relationships/slideLayout" Target="../slideLayouts/slideLayout4.xml"/><Relationship Id="rId35" Type="http://schemas.openxmlformats.org/officeDocument/2006/relationships/slideLayout" Target="../slideLayouts/slideLayout5.xml"/><Relationship Id="rId36" Type="http://schemas.openxmlformats.org/officeDocument/2006/relationships/slideLayout" Target="../slideLayouts/slideLayout6.xml"/><Relationship Id="rId37" Type="http://schemas.openxmlformats.org/officeDocument/2006/relationships/slideLayout" Target="../slideLayouts/slideLayout7.xml"/><Relationship Id="rId38" Type="http://schemas.openxmlformats.org/officeDocument/2006/relationships/slideLayout" Target="../slideLayouts/slideLayout8.xml"/><Relationship Id="rId39" Type="http://schemas.openxmlformats.org/officeDocument/2006/relationships/slideLayout" Target="../slideLayouts/slideLayout9.xml"/><Relationship Id="rId40" Type="http://schemas.openxmlformats.org/officeDocument/2006/relationships/slideLayout" Target="../slideLayouts/slideLayout10.xml"/><Relationship Id="rId41" Type="http://schemas.openxmlformats.org/officeDocument/2006/relationships/slideLayout" Target="../slideLayouts/slideLayout11.xml"/><Relationship Id="rId42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6867360"/>
            <a:chOff x="0" y="0"/>
            <a:chExt cx="9156600" cy="686736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5520" cy="222120"/>
            </a:xfrm>
            <a:prstGeom prst="rect">
              <a:avLst/>
            </a:prstGeom>
            <a:gradFill rotWithShape="0">
              <a:gsLst>
                <a:gs pos="0">
                  <a:srgbClr val="15331e"/>
                </a:gs>
                <a:gs pos="100000">
                  <a:srgbClr val="d9efe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5520" cy="196920"/>
            </a:xfrm>
            <a:prstGeom prst="rect">
              <a:avLst/>
            </a:prstGeom>
            <a:gradFill rotWithShape="0">
              <a:gsLst>
                <a:gs pos="0">
                  <a:srgbClr val="d9efe0"/>
                </a:gs>
                <a:gs pos="100000">
                  <a:srgbClr val="15331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199880" cy="6854760"/>
            </a:xfrm>
            <a:prstGeom prst="rect">
              <a:avLst/>
            </a:prstGeom>
            <a:gradFill rotWithShape="0">
              <a:gsLst>
                <a:gs pos="0">
                  <a:srgbClr val="8ba89e"/>
                </a:gs>
                <a:gs pos="50000">
                  <a:srgbClr val="a4c6ba"/>
                </a:gs>
                <a:gs pos="100000">
                  <a:srgbClr val="8ba89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2040" cy="6305760"/>
              <a:chOff x="7848720" y="1440"/>
              <a:chExt cx="1292040" cy="630576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58880" cy="2266920"/>
                <a:chOff x="8381880" y="1440"/>
                <a:chExt cx="758880" cy="226692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6120" cy="273240"/>
                  <a:chOff x="8704440" y="1440"/>
                  <a:chExt cx="276120" cy="27324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6120" cy="273240"/>
                    <a:chOff x="8704440" y="1440"/>
                    <a:chExt cx="276120" cy="27324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2960" y="-37080"/>
                      <a:ext cx="198720" cy="276120"/>
                    </a:xfrm>
                    <a:custGeom>
                      <a:avLst/>
                      <a:gdLst>
                        <a:gd name="textAreaLeft" fmla="*/ 0 w 198720"/>
                        <a:gd name="textAreaRight" fmla="*/ 199080 w 198720"/>
                        <a:gd name="textAreaTop" fmla="*/ 0 h 276120"/>
                        <a:gd name="textAreaBottom" fmla="*/ 276480 h 276120"/>
                      </a:gdLst>
                      <a:ahLst/>
                      <a:rect l="textAreaLeft" t="textAreaTop" r="textAreaRight" b="textAreaBottom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680" y="94320"/>
                      <a:ext cx="138240" cy="222120"/>
                    </a:xfrm>
                    <a:custGeom>
                      <a:avLst/>
                      <a:gdLst>
                        <a:gd name="textAreaLeft" fmla="*/ 0 w 138240"/>
                        <a:gd name="textAreaRight" fmla="*/ 138600 w 138240"/>
                        <a:gd name="textAreaTop" fmla="*/ 0 h 222120"/>
                        <a:gd name="textAreaBottom" fmla="*/ 222480 h 222120"/>
                      </a:gdLst>
                      <a:ahLst/>
                      <a:rect l="textAreaLeft" t="textAreaTop" r="textAreaRight" b="textAreaBottom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5040" y="131760"/>
                    <a:ext cx="23760" cy="2376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pPr algn="ctr"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4120" y="74880"/>
                    <a:ext cx="39960" cy="54000"/>
                  </a:xfrm>
                  <a:custGeom>
                    <a:avLst/>
                    <a:gdLst>
                      <a:gd name="textAreaLeft" fmla="*/ 0 w 39960"/>
                      <a:gd name="textAreaRight" fmla="*/ 40320 w 39960"/>
                      <a:gd name="textAreaTop" fmla="*/ 0 h 54000"/>
                      <a:gd name="textAreaBottom" fmla="*/ 54360 h 54000"/>
                    </a:gdLst>
                    <a:ahLst/>
                    <a:rect l="textAreaLeft" t="textAreaTop" r="textAreaRight" b="textAreaBottom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560" bIns="7560" anchor="ctr">
                    <a:noAutofit/>
                  </a:bodyPr>
                  <a:p>
                    <a:pPr algn="ctr"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8640" y="64080"/>
                    <a:ext cx="60480" cy="33480"/>
                  </a:xfrm>
                  <a:custGeom>
                    <a:avLst/>
                    <a:gdLst>
                      <a:gd name="textAreaLeft" fmla="*/ 0 w 60480"/>
                      <a:gd name="textAreaRight" fmla="*/ 60840 w 60480"/>
                      <a:gd name="textAreaTop" fmla="*/ 0 h 33480"/>
                      <a:gd name="textAreaBottom" fmla="*/ 33840 h 33480"/>
                    </a:gdLst>
                    <a:ahLst/>
                    <a:rect l="textAreaLeft" t="textAreaTop" r="textAreaRight" b="textAreaBottom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2960" bIns="-12960" anchor="ctr">
                    <a:noAutofit/>
                  </a:bodyPr>
                  <a:p>
                    <a:pPr algn="ctr"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5600" y="113040"/>
                    <a:ext cx="20520" cy="57240"/>
                  </a:xfrm>
                  <a:custGeom>
                    <a:avLst/>
                    <a:gdLst>
                      <a:gd name="textAreaLeft" fmla="*/ 0 w 20520"/>
                      <a:gd name="textAreaRight" fmla="*/ 20880 w 20520"/>
                      <a:gd name="textAreaTop" fmla="*/ 0 h 57240"/>
                      <a:gd name="textAreaBottom" fmla="*/ 57600 h 57240"/>
                    </a:gdLst>
                    <a:ahLst/>
                    <a:rect l="textAreaLeft" t="textAreaTop" r="textAreaRight" b="textAreaBottom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pPr algn="ctr"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3960" y="192960"/>
                    <a:ext cx="60480" cy="23760"/>
                  </a:xfrm>
                  <a:custGeom>
                    <a:avLst/>
                    <a:gdLst>
                      <a:gd name="textAreaLeft" fmla="*/ 0 w 60480"/>
                      <a:gd name="textAreaRight" fmla="*/ 60840 w 60480"/>
                      <a:gd name="textAreaTop" fmla="*/ 0 h 23760"/>
                      <a:gd name="textAreaBottom" fmla="*/ 24120 h 23760"/>
                    </a:gdLst>
                    <a:ahLst/>
                    <a:rect l="textAreaLeft" t="textAreaTop" r="textAreaRight" b="textAreaBottom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2680" bIns="-22680" anchor="ctr">
                    <a:noAutofit/>
                  </a:bodyPr>
                  <a:p>
                    <a:pPr algn="ctr"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69960" y="167040"/>
                    <a:ext cx="34920" cy="39600"/>
                  </a:xfrm>
                  <a:custGeom>
                    <a:avLst/>
                    <a:gdLst>
                      <a:gd name="textAreaLeft" fmla="*/ 0 w 34920"/>
                      <a:gd name="textAreaRight" fmla="*/ 35280 w 34920"/>
                      <a:gd name="textAreaTop" fmla="*/ 0 h 39600"/>
                      <a:gd name="textAreaBottom" fmla="*/ 39960 h 39600"/>
                    </a:gdLst>
                    <a:ahLst/>
                    <a:rect l="textAreaLeft" t="textAreaTop" r="textAreaRight" b="textAreaBottom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pPr algn="ctr"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232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196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232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196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196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196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196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196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5480" cy="4707000"/>
                <a:chOff x="7848720" y="1600200"/>
                <a:chExt cx="825480" cy="470700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232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196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232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232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196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196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232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196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232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232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232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196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196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232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196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232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196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232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196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87280" cy="1936800"/>
            </a:xfrm>
            <a:custGeom>
              <a:avLst/>
              <a:gdLst>
                <a:gd name="textAreaLeft" fmla="*/ 0 w 1187280"/>
                <a:gd name="textAreaRight" fmla="*/ 1187280 w 1187280"/>
                <a:gd name="textAreaTop" fmla="*/ 0 h 1936800"/>
                <a:gd name="textAreaBottom" fmla="*/ 1937160 h 1936800"/>
              </a:gdLst>
              <a:ahLst/>
              <a:rect l="textAreaLeft" t="textAreaTop" r="textAreaRight" b="textAreaBottom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6080" cy="1996920"/>
            </a:xfrm>
            <a:custGeom>
              <a:avLst/>
              <a:gdLst>
                <a:gd name="textAreaLeft" fmla="*/ 0 w 1216080"/>
                <a:gd name="textAreaRight" fmla="*/ 1216440 w 1216080"/>
                <a:gd name="textAreaTop" fmla="*/ 0 h 1996920"/>
                <a:gd name="textAreaBottom" fmla="*/ 1997280 h 1996920"/>
              </a:gdLst>
              <a:ahLst/>
              <a:rect l="textAreaLeft" t="textAreaTop" r="textAreaRight" b="textAreaBottom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a08f5e"/>
                </a:gs>
                <a:gs pos="50000">
                  <a:srgbClr val="c1c177"/>
                </a:gs>
                <a:gs pos="100000">
                  <a:srgbClr val="a08f5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28680" cy="4033800"/>
            </a:xfrm>
            <a:custGeom>
              <a:avLst/>
              <a:gdLst>
                <a:gd name="textAreaLeft" fmla="*/ 0 w 1228680"/>
                <a:gd name="textAreaRight" fmla="*/ 1229040 w 1228680"/>
                <a:gd name="textAreaTop" fmla="*/ 0 h 4033800"/>
                <a:gd name="textAreaBottom" fmla="*/ 4034160 h 4033800"/>
              </a:gdLst>
              <a:ahLst/>
              <a:rect l="textAreaLeft" t="textAreaTop" r="textAreaRight" b="textAreaBottom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27423a"/>
                </a:gs>
                <a:gs pos="50000">
                  <a:srgbClr val="558f7d"/>
                </a:gs>
                <a:gs pos="100000">
                  <a:srgbClr val="2742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6320" cy="2181240"/>
            </a:xfrm>
            <a:custGeom>
              <a:avLst/>
              <a:gdLst>
                <a:gd name="textAreaLeft" fmla="*/ 0 w 976320"/>
                <a:gd name="textAreaRight" fmla="*/ 976680 w 976320"/>
                <a:gd name="textAreaTop" fmla="*/ 0 h 2181240"/>
                <a:gd name="textAreaBottom" fmla="*/ 2181240 h 2181240"/>
              </a:gdLst>
              <a:ahLst/>
              <a:rect l="textAreaLeft" t="textAreaTop" r="textAreaRight" b="textAreaBottom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1160" cy="5045040"/>
            </a:xfrm>
            <a:custGeom>
              <a:avLst/>
              <a:gdLst>
                <a:gd name="textAreaLeft" fmla="*/ 0 w 911160"/>
                <a:gd name="textAreaRight" fmla="*/ 911520 w 911160"/>
                <a:gd name="textAreaTop" fmla="*/ 0 h 5045040"/>
                <a:gd name="textAreaBottom" fmla="*/ 5045400 h 5045040"/>
              </a:gdLst>
              <a:ahLst/>
              <a:rect l="textAreaLeft" t="textAreaTop" r="textAreaRight" b="textAreaBottom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6480" cy="3068640"/>
            </a:xfrm>
            <a:custGeom>
              <a:avLst/>
              <a:gdLst>
                <a:gd name="textAreaLeft" fmla="*/ 0 w 906480"/>
                <a:gd name="textAreaRight" fmla="*/ 906840 w 906480"/>
                <a:gd name="textAreaTop" fmla="*/ 0 h 3068640"/>
                <a:gd name="textAreaBottom" fmla="*/ 3069000 h 3068640"/>
              </a:gdLst>
              <a:ahLst/>
              <a:rect l="textAreaLeft" t="textAreaTop" r="textAreaRight" b="textAreaBottom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a08f5e"/>
                </a:gs>
                <a:gs pos="100000">
                  <a:srgbClr val="d9efe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3120" cy="3349800"/>
            </a:xfrm>
            <a:custGeom>
              <a:avLst/>
              <a:gdLst>
                <a:gd name="textAreaLeft" fmla="*/ 0 w 573120"/>
                <a:gd name="textAreaRight" fmla="*/ 573480 w 573120"/>
                <a:gd name="textAreaTop" fmla="*/ 0 h 3349800"/>
                <a:gd name="textAreaBottom" fmla="*/ 3350160 h 334980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297000" cy="3349800"/>
            </a:xfrm>
            <a:custGeom>
              <a:avLst/>
              <a:gdLst>
                <a:gd name="textAreaLeft" fmla="*/ 0 w 297000"/>
                <a:gd name="textAreaRight" fmla="*/ 297360 w 297000"/>
                <a:gd name="textAreaTop" fmla="*/ 0 h 3349800"/>
                <a:gd name="textAreaBottom" fmla="*/ 3350160 h 334980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a08f5e"/>
                </a:gs>
                <a:gs pos="50000">
                  <a:srgbClr val="c1c177"/>
                </a:gs>
                <a:gs pos="100000">
                  <a:srgbClr val="a08f5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5680" cy="6855120"/>
            </a:xfrm>
            <a:prstGeom prst="rect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2080" cy="615960"/>
            </a:xfrm>
            <a:custGeom>
              <a:avLst/>
              <a:gdLst>
                <a:gd name="textAreaLeft" fmla="*/ 0 w 1162080"/>
                <a:gd name="textAreaRight" fmla="*/ 1162440 w 1162080"/>
                <a:gd name="textAreaTop" fmla="*/ 0 h 615960"/>
                <a:gd name="textAreaBottom" fmla="*/ 616320 h 615960"/>
              </a:gdLst>
              <a:ahLst/>
              <a:rect l="textAreaLeft" t="textAreaTop" r="textAreaRight" b="textAreaBottom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d9efe0"/>
                </a:gs>
                <a:gs pos="50000">
                  <a:srgbClr val="a08f5e"/>
                </a:gs>
                <a:gs pos="100000">
                  <a:srgbClr val="d9efe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9000" y="3315960"/>
              <a:ext cx="6854760" cy="222480"/>
            </a:xfrm>
            <a:custGeom>
              <a:avLst/>
              <a:gdLst>
                <a:gd name="textAreaLeft" fmla="*/ 667800 w 6854760"/>
                <a:gd name="textAreaRight" fmla="*/ 6186960 w 6854760"/>
                <a:gd name="textAreaTop" fmla="*/ 21960 h 222480"/>
                <a:gd name="textAreaBottom" fmla="*/ 200520 h 222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15331e"/>
                </a:gs>
                <a:gs pos="100000">
                  <a:srgbClr val="d9efe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142920"/>
            <a:ext cx="747396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-1" strike="noStrike">
                <a:solidFill>
                  <a:srgbClr val="30605a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36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1680" y="6242040"/>
            <a:ext cx="1782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sldNum" idx="1"/>
          </p:nvPr>
        </p:nvSpPr>
        <p:spPr>
          <a:xfrm>
            <a:off x="5866920" y="6248160"/>
            <a:ext cx="175284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4B4E9C-C2D9-460D-A7F5-8C9DC9929BF7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1"/>
    <p:sldLayoutId id="2147483650" r:id="rId32"/>
    <p:sldLayoutId id="2147483651" r:id="rId33"/>
    <p:sldLayoutId id="2147483652" r:id="rId34"/>
    <p:sldLayoutId id="2147483653" r:id="rId35"/>
    <p:sldLayoutId id="2147483654" r:id="rId36"/>
    <p:sldLayoutId id="2147483655" r:id="rId37"/>
    <p:sldLayoutId id="2147483656" r:id="rId38"/>
    <p:sldLayoutId id="2147483657" r:id="rId39"/>
    <p:sldLayoutId id="2147483658" r:id="rId40"/>
    <p:sldLayoutId id="2147483659" r:id="rId41"/>
    <p:sldLayoutId id="2147483660" r:id="rId42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6600" cy="6867360"/>
            <a:chOff x="0" y="0"/>
            <a:chExt cx="9156600" cy="686736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5520" cy="222120"/>
            </a:xfrm>
            <a:prstGeom prst="rect">
              <a:avLst/>
            </a:prstGeom>
            <a:gradFill rotWithShape="0">
              <a:gsLst>
                <a:gs pos="0">
                  <a:srgbClr val="15331e"/>
                </a:gs>
                <a:gs pos="100000">
                  <a:srgbClr val="d9efe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5520" cy="196920"/>
            </a:xfrm>
            <a:prstGeom prst="rect">
              <a:avLst/>
            </a:prstGeom>
            <a:gradFill rotWithShape="0">
              <a:gsLst>
                <a:gs pos="0">
                  <a:srgbClr val="d9efe0"/>
                </a:gs>
                <a:gs pos="100000">
                  <a:srgbClr val="15331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199880" cy="6854760"/>
            </a:xfrm>
            <a:prstGeom prst="rect">
              <a:avLst/>
            </a:prstGeom>
            <a:gradFill rotWithShape="0">
              <a:gsLst>
                <a:gs pos="0">
                  <a:srgbClr val="8ba89e"/>
                </a:gs>
                <a:gs pos="50000">
                  <a:srgbClr val="a4c6ba"/>
                </a:gs>
                <a:gs pos="100000">
                  <a:srgbClr val="8ba89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2040" cy="6305760"/>
              <a:chOff x="7848720" y="1440"/>
              <a:chExt cx="1292040" cy="630576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58880" cy="2266920"/>
                <a:chOff x="8381880" y="1440"/>
                <a:chExt cx="758880" cy="226692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6120" cy="273240"/>
                  <a:chOff x="8704440" y="1440"/>
                  <a:chExt cx="276120" cy="27324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6120" cy="273240"/>
                    <a:chOff x="8704440" y="1440"/>
                    <a:chExt cx="276120" cy="27324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2960" y="-37080"/>
                      <a:ext cx="198720" cy="276120"/>
                    </a:xfrm>
                    <a:custGeom>
                      <a:avLst/>
                      <a:gdLst>
                        <a:gd name="textAreaLeft" fmla="*/ 0 w 198720"/>
                        <a:gd name="textAreaRight" fmla="*/ 199080 w 198720"/>
                        <a:gd name="textAreaTop" fmla="*/ 0 h 276120"/>
                        <a:gd name="textAreaBottom" fmla="*/ 276480 h 276120"/>
                      </a:gdLst>
                      <a:ahLst/>
                      <a:rect l="textAreaLeft" t="textAreaTop" r="textAreaRight" b="textAreaBottom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680" y="94320"/>
                      <a:ext cx="138240" cy="222120"/>
                    </a:xfrm>
                    <a:custGeom>
                      <a:avLst/>
                      <a:gdLst>
                        <a:gd name="textAreaLeft" fmla="*/ 0 w 138240"/>
                        <a:gd name="textAreaRight" fmla="*/ 138600 w 138240"/>
                        <a:gd name="textAreaTop" fmla="*/ 0 h 222120"/>
                        <a:gd name="textAreaBottom" fmla="*/ 222480 h 222120"/>
                      </a:gdLst>
                      <a:ahLst/>
                      <a:rect l="textAreaLeft" t="textAreaTop" r="textAreaRight" b="textAreaBottom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5040" y="131760"/>
                    <a:ext cx="23760" cy="2376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pPr algn="ctr"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4120" y="74880"/>
                    <a:ext cx="39960" cy="54000"/>
                  </a:xfrm>
                  <a:custGeom>
                    <a:avLst/>
                    <a:gdLst>
                      <a:gd name="textAreaLeft" fmla="*/ 0 w 39960"/>
                      <a:gd name="textAreaRight" fmla="*/ 40320 w 39960"/>
                      <a:gd name="textAreaTop" fmla="*/ 0 h 54000"/>
                      <a:gd name="textAreaBottom" fmla="*/ 54360 h 54000"/>
                    </a:gdLst>
                    <a:ahLst/>
                    <a:rect l="textAreaLeft" t="textAreaTop" r="textAreaRight" b="textAreaBottom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560" bIns="7560" anchor="ctr">
                    <a:noAutofit/>
                  </a:bodyPr>
                  <a:p>
                    <a:pPr algn="ctr"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8640" y="64080"/>
                    <a:ext cx="60480" cy="33480"/>
                  </a:xfrm>
                  <a:custGeom>
                    <a:avLst/>
                    <a:gdLst>
                      <a:gd name="textAreaLeft" fmla="*/ 0 w 60480"/>
                      <a:gd name="textAreaRight" fmla="*/ 60840 w 60480"/>
                      <a:gd name="textAreaTop" fmla="*/ 0 h 33480"/>
                      <a:gd name="textAreaBottom" fmla="*/ 33840 h 33480"/>
                    </a:gdLst>
                    <a:ahLst/>
                    <a:rect l="textAreaLeft" t="textAreaTop" r="textAreaRight" b="textAreaBottom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2960" bIns="-12960" anchor="ctr">
                    <a:noAutofit/>
                  </a:bodyPr>
                  <a:p>
                    <a:pPr algn="ctr"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5600" y="113040"/>
                    <a:ext cx="20520" cy="57240"/>
                  </a:xfrm>
                  <a:custGeom>
                    <a:avLst/>
                    <a:gdLst>
                      <a:gd name="textAreaLeft" fmla="*/ 0 w 20520"/>
                      <a:gd name="textAreaRight" fmla="*/ 20880 w 20520"/>
                      <a:gd name="textAreaTop" fmla="*/ 0 h 57240"/>
                      <a:gd name="textAreaBottom" fmla="*/ 57600 h 57240"/>
                    </a:gdLst>
                    <a:ahLst/>
                    <a:rect l="textAreaLeft" t="textAreaTop" r="textAreaRight" b="textAreaBottom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pPr algn="ctr"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3960" y="192960"/>
                    <a:ext cx="60480" cy="23760"/>
                  </a:xfrm>
                  <a:custGeom>
                    <a:avLst/>
                    <a:gdLst>
                      <a:gd name="textAreaLeft" fmla="*/ 0 w 60480"/>
                      <a:gd name="textAreaRight" fmla="*/ 60840 w 60480"/>
                      <a:gd name="textAreaTop" fmla="*/ 0 h 23760"/>
                      <a:gd name="textAreaBottom" fmla="*/ 24120 h 23760"/>
                    </a:gdLst>
                    <a:ahLst/>
                    <a:rect l="textAreaLeft" t="textAreaTop" r="textAreaRight" b="textAreaBottom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2680" bIns="-22680" anchor="ctr">
                    <a:noAutofit/>
                  </a:bodyPr>
                  <a:p>
                    <a:pPr algn="ctr"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69960" y="167040"/>
                    <a:ext cx="34920" cy="39600"/>
                  </a:xfrm>
                  <a:custGeom>
                    <a:avLst/>
                    <a:gdLst>
                      <a:gd name="textAreaLeft" fmla="*/ 0 w 34920"/>
                      <a:gd name="textAreaRight" fmla="*/ 35280 w 34920"/>
                      <a:gd name="textAreaTop" fmla="*/ 0 h 39600"/>
                      <a:gd name="textAreaBottom" fmla="*/ 39960 h 39600"/>
                    </a:gdLst>
                    <a:ahLst/>
                    <a:rect l="textAreaLeft" t="textAreaTop" r="textAreaRight" b="textAreaBottom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pPr algn="ctr"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232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196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232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196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196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196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196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196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5480" cy="4707000"/>
                <a:chOff x="7848720" y="1600200"/>
                <a:chExt cx="825480" cy="470700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232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196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232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232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196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196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232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196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232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232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232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196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196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232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196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232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196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232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196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87280" cy="1936800"/>
            </a:xfrm>
            <a:custGeom>
              <a:avLst/>
              <a:gdLst>
                <a:gd name="textAreaLeft" fmla="*/ 0 w 1187280"/>
                <a:gd name="textAreaRight" fmla="*/ 1187280 w 1187280"/>
                <a:gd name="textAreaTop" fmla="*/ 0 h 1936800"/>
                <a:gd name="textAreaBottom" fmla="*/ 1937160 h 1936800"/>
              </a:gdLst>
              <a:ahLst/>
              <a:rect l="textAreaLeft" t="textAreaTop" r="textAreaRight" b="textAreaBottom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6080" cy="1996920"/>
            </a:xfrm>
            <a:custGeom>
              <a:avLst/>
              <a:gdLst>
                <a:gd name="textAreaLeft" fmla="*/ 0 w 1216080"/>
                <a:gd name="textAreaRight" fmla="*/ 1216440 w 1216080"/>
                <a:gd name="textAreaTop" fmla="*/ 0 h 1996920"/>
                <a:gd name="textAreaBottom" fmla="*/ 1997280 h 1996920"/>
              </a:gdLst>
              <a:ahLst/>
              <a:rect l="textAreaLeft" t="textAreaTop" r="textAreaRight" b="textAreaBottom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a08f5e"/>
                </a:gs>
                <a:gs pos="50000">
                  <a:srgbClr val="c1c177"/>
                </a:gs>
                <a:gs pos="100000">
                  <a:srgbClr val="a08f5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28680" cy="4033800"/>
            </a:xfrm>
            <a:custGeom>
              <a:avLst/>
              <a:gdLst>
                <a:gd name="textAreaLeft" fmla="*/ 0 w 1228680"/>
                <a:gd name="textAreaRight" fmla="*/ 1229040 w 1228680"/>
                <a:gd name="textAreaTop" fmla="*/ 0 h 4033800"/>
                <a:gd name="textAreaBottom" fmla="*/ 4034160 h 4033800"/>
              </a:gdLst>
              <a:ahLst/>
              <a:rect l="textAreaLeft" t="textAreaTop" r="textAreaRight" b="textAreaBottom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27423a"/>
                </a:gs>
                <a:gs pos="50000">
                  <a:srgbClr val="558f7d"/>
                </a:gs>
                <a:gs pos="100000">
                  <a:srgbClr val="2742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6320" cy="2181240"/>
            </a:xfrm>
            <a:custGeom>
              <a:avLst/>
              <a:gdLst>
                <a:gd name="textAreaLeft" fmla="*/ 0 w 976320"/>
                <a:gd name="textAreaRight" fmla="*/ 976680 w 976320"/>
                <a:gd name="textAreaTop" fmla="*/ 0 h 2181240"/>
                <a:gd name="textAreaBottom" fmla="*/ 2181240 h 2181240"/>
              </a:gdLst>
              <a:ahLst/>
              <a:rect l="textAreaLeft" t="textAreaTop" r="textAreaRight" b="textAreaBottom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1160" cy="5045040"/>
            </a:xfrm>
            <a:custGeom>
              <a:avLst/>
              <a:gdLst>
                <a:gd name="textAreaLeft" fmla="*/ 0 w 911160"/>
                <a:gd name="textAreaRight" fmla="*/ 911520 w 911160"/>
                <a:gd name="textAreaTop" fmla="*/ 0 h 5045040"/>
                <a:gd name="textAreaBottom" fmla="*/ 5045400 h 5045040"/>
              </a:gdLst>
              <a:ahLst/>
              <a:rect l="textAreaLeft" t="textAreaTop" r="textAreaRight" b="textAreaBottom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6480" cy="3068640"/>
            </a:xfrm>
            <a:custGeom>
              <a:avLst/>
              <a:gdLst>
                <a:gd name="textAreaLeft" fmla="*/ 0 w 906480"/>
                <a:gd name="textAreaRight" fmla="*/ 906840 w 906480"/>
                <a:gd name="textAreaTop" fmla="*/ 0 h 3068640"/>
                <a:gd name="textAreaBottom" fmla="*/ 3069000 h 3068640"/>
              </a:gdLst>
              <a:ahLst/>
              <a:rect l="textAreaLeft" t="textAreaTop" r="textAreaRight" b="textAreaBottom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a08f5e"/>
                </a:gs>
                <a:gs pos="100000">
                  <a:srgbClr val="d9efe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3120" cy="3349800"/>
            </a:xfrm>
            <a:custGeom>
              <a:avLst/>
              <a:gdLst>
                <a:gd name="textAreaLeft" fmla="*/ 0 w 573120"/>
                <a:gd name="textAreaRight" fmla="*/ 573480 w 573120"/>
                <a:gd name="textAreaTop" fmla="*/ 0 h 3349800"/>
                <a:gd name="textAreaBottom" fmla="*/ 3350160 h 334980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297000" cy="3349800"/>
            </a:xfrm>
            <a:custGeom>
              <a:avLst/>
              <a:gdLst>
                <a:gd name="textAreaLeft" fmla="*/ 0 w 297000"/>
                <a:gd name="textAreaRight" fmla="*/ 297360 w 297000"/>
                <a:gd name="textAreaTop" fmla="*/ 0 h 3349800"/>
                <a:gd name="textAreaBottom" fmla="*/ 3350160 h 334980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a08f5e"/>
                </a:gs>
                <a:gs pos="50000">
                  <a:srgbClr val="c1c177"/>
                </a:gs>
                <a:gs pos="100000">
                  <a:srgbClr val="a08f5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5680" cy="6855120"/>
            </a:xfrm>
            <a:prstGeom prst="rect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2080" cy="615960"/>
            </a:xfrm>
            <a:custGeom>
              <a:avLst/>
              <a:gdLst>
                <a:gd name="textAreaLeft" fmla="*/ 0 w 1162080"/>
                <a:gd name="textAreaRight" fmla="*/ 1162440 w 1162080"/>
                <a:gd name="textAreaTop" fmla="*/ 0 h 615960"/>
                <a:gd name="textAreaBottom" fmla="*/ 616320 h 615960"/>
              </a:gdLst>
              <a:ahLst/>
              <a:rect l="textAreaLeft" t="textAreaTop" r="textAreaRight" b="textAreaBottom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d9efe0"/>
                </a:gs>
                <a:gs pos="50000">
                  <a:srgbClr val="a08f5e"/>
                </a:gs>
                <a:gs pos="100000">
                  <a:srgbClr val="d9efe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9000" y="3315960"/>
              <a:ext cx="6854760" cy="222480"/>
            </a:xfrm>
            <a:custGeom>
              <a:avLst/>
              <a:gdLst>
                <a:gd name="textAreaLeft" fmla="*/ 667800 w 6854760"/>
                <a:gd name="textAreaRight" fmla="*/ 6186960 w 6854760"/>
                <a:gd name="textAreaTop" fmla="*/ 21960 h 222480"/>
                <a:gd name="textAreaBottom" fmla="*/ 200520 h 222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15331e"/>
                </a:gs>
                <a:gs pos="100000">
                  <a:srgbClr val="d9efe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18880" y="142920"/>
            <a:ext cx="747396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-1" strike="noStrike">
                <a:solidFill>
                  <a:srgbClr val="30605a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263520" y="1598400"/>
            <a:ext cx="7383600" cy="45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01680" y="6242040"/>
            <a:ext cx="1782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sldNum" idx="2"/>
          </p:nvPr>
        </p:nvSpPr>
        <p:spPr>
          <a:xfrm>
            <a:off x="5866920" y="6248160"/>
            <a:ext cx="175284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02235ED9-7120-4E94-9299-3B107F814C9C}" type="slidenum">
              <a:rPr b="0" lang="ru-RU" sz="10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6.gi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7.jpeg"/><Relationship Id="rId4" Type="http://schemas.openxmlformats.org/officeDocument/2006/relationships/image" Target="../media/image8.gi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www.lenagold.ru/fon/clipart/m/mork/mork18.png" TargetMode="External"/><Relationship Id="rId3" Type="http://schemas.openxmlformats.org/officeDocument/2006/relationships/image" Target="../media/image3.png"/><Relationship Id="rId4" Type="http://schemas.openxmlformats.org/officeDocument/2006/relationships/hyperlink" Target="http://img0.liveinternet.ru/images/attach/c/7/94/575/94575304_565490722.jpg" TargetMode="External"/><Relationship Id="rId5" Type="http://schemas.openxmlformats.org/officeDocument/2006/relationships/image" Target="../media/image3.png"/><Relationship Id="rId6" Type="http://schemas.openxmlformats.org/officeDocument/2006/relationships/hyperlink" Target="http://swetlanka.ru/wp-content/uploads/2009/04/zaya.gif" TargetMode="External"/><Relationship Id="rId7" Type="http://schemas.openxmlformats.org/officeDocument/2006/relationships/image" Target="../media/image3.png"/><Relationship Id="rId8" Type="http://schemas.openxmlformats.org/officeDocument/2006/relationships/hyperlink" Target="http://www.happiness-shop.ru/userfiles/image/test_folder/2-parachute-v-nebe-1024.jpg" TargetMode="External"/><Relationship Id="rId9" Type="http://schemas.openxmlformats.org/officeDocument/2006/relationships/image" Target="../media/image3.png"/><Relationship Id="rId10" Type="http://schemas.openxmlformats.org/officeDocument/2006/relationships/hyperlink" Target="http://img0.liveinternet.ru/images/attach/c/0/44/45/44045020_1242642872_4.jpg" TargetMode="External"/><Relationship Id="rId11" Type="http://schemas.openxmlformats.org/officeDocument/2006/relationships/image" Target="../media/image3.png"/><Relationship Id="rId12" Type="http://schemas.openxmlformats.org/officeDocument/2006/relationships/hyperlink" Target="http://img0.liveinternet.ru/images/attach/c/3/76/80/76080094_21.jpg" TargetMode="External"/><Relationship Id="rId13" Type="http://schemas.openxmlformats.org/officeDocument/2006/relationships/image" Target="../media/image3.png"/><Relationship Id="rId14" Type="http://schemas.openxmlformats.org/officeDocument/2006/relationships/hyperlink" Target="http://www.nadietax.com/uploads/posts/2013-05/2013-09/1378723867_Tykva.png" TargetMode="External"/><Relationship Id="rId1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263520" y="304920"/>
            <a:ext cx="7386480" cy="608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Цель урока: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знакомление с произведениями малых фольклорных жанров – пословицей, поговоркой и загадк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адачи урок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700"/>
              </a:spcBef>
              <a:buSzPct val="117264"/>
              <a:buBlip>
                <a:blip r:embed="rId1"/>
              </a:buBlip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звивать интерес к произведениям народного творчеств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700"/>
              </a:spcBef>
              <a:buSzPct val="117264"/>
              <a:buBlip>
                <a:blip r:embed="rId2"/>
              </a:buBlip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чить отгадывать загадки, сравнивать предмет загадки и предмет отгадки, выделять признаки предмета, на которые указывает загадк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700"/>
              </a:spcBef>
              <a:buSzPct val="117264"/>
              <a:buBlip>
                <a:blip r:embed="rId3"/>
              </a:buBlip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имулировать проявление творческой активности детей при отгадывании загадок и составлении своих собственны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219240" y="204840"/>
            <a:ext cx="747684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30605a"/>
                </a:solidFill>
                <a:latin typeface="Arial"/>
              </a:rPr>
              <a:t>Малые фольклорные жанры устного народного творчест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63520" y="1598760"/>
            <a:ext cx="7386480" cy="459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SzPct val="136785"/>
              <a:buBlip>
                <a:blip r:embed="rId1"/>
              </a:buBlip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гадк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- выражение, в котором один предмет изображается посредством другого, имеющего с ним какое-нибудь, хотя бы отдалённое, сходств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SzPct val="136785"/>
              <a:buBlip>
                <a:blip r:embed="rId2"/>
              </a:buBlip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словиц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- малая форма народного поэтического творчества, облачённая в краткое, ритмизованное изречение, несущее обобщённую мысль, вывод, иносказание с поучительным уклоном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SzPct val="136785"/>
              <a:buBlip>
                <a:blip r:embed="rId3"/>
              </a:buBlip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говорк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- словосочетание, оборот речи, отражающий какое-либо явление жизни. Часто имеет юмористический характер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dur="indefinite" fill="hold">
                      <p:stCondLst>
                        <p:cond delay="indefinite"/>
                      </p:stCondLst>
                      <p:childTnLst>
                        <p:par>
                          <p:cTn id="1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dur="indefinite" fill="hold">
                      <p:stCondLst>
                        <p:cond delay="indefinite"/>
                      </p:stCondLst>
                      <p:childTnLst>
                        <p:par>
                          <p:cTn id="1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304920"/>
            <a:ext cx="7386480" cy="28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80000"/>
              </a:lnSpc>
              <a:spcBef>
                <a:spcPts val="700"/>
              </a:spcBef>
              <a:buSzPct val="117264"/>
              <a:buBlip>
                <a:blip r:embed="rId1"/>
              </a:buBlip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равните предмет загадки и предмет отгад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л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799"/>
              </a:spcBef>
              <a:buSzPct val="117264"/>
              <a:buBlip>
                <a:blip r:embed="rId2"/>
              </a:buBlip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зовите признаки загаданного предмета по цвету, форме, поведению или назначению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09480" y="2895480"/>
            <a:ext cx="5410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e85716"/>
                </a:solidFill>
                <a:latin typeface="Arial"/>
              </a:rPr>
              <a:t>Сидит красная девица в темнице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e85716"/>
                </a:solidFill>
                <a:latin typeface="Arial"/>
              </a:rPr>
              <a:t>а коса на улиц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3"/>
          <a:stretch/>
        </p:blipFill>
        <p:spPr>
          <a:xfrm>
            <a:off x="457200" y="4497480"/>
            <a:ext cx="3581280" cy="143964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4"/>
          <a:stretch/>
        </p:blipFill>
        <p:spPr>
          <a:xfrm>
            <a:off x="4572000" y="3886200"/>
            <a:ext cx="2351160" cy="2743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fill="hold">
                      <p:stCondLst>
                        <p:cond delay="indefinite"/>
                      </p:stCondLst>
                      <p:childTnLst>
                        <p:par>
                          <p:cTn id="2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dur="indefinite" fill="hold">
                      <p:stCondLst>
                        <p:cond delay="indefinite"/>
                      </p:stCondLst>
                      <p:childTnLst>
                        <p:par>
                          <p:cTn id="3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dur="indefinite" fill="hold">
                      <p:stCondLst>
                        <p:cond delay="indefinite"/>
                      </p:stCondLst>
                      <p:childTnLst>
                        <p:par>
                          <p:cTn id="3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0" y="304920"/>
            <a:ext cx="7386480" cy="28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80000"/>
              </a:lnSpc>
              <a:spcBef>
                <a:spcPts val="700"/>
              </a:spcBef>
              <a:buSzPct val="117264"/>
              <a:buBlip>
                <a:blip r:embed="rId1"/>
              </a:buBlip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равните предмет загадки и предмет отгад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799"/>
              </a:spcBef>
              <a:buSzPct val="117264"/>
              <a:buBlip>
                <a:blip r:embed="rId2"/>
              </a:buBlip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зовите признаки загаданного предмета по цвету, форме, поведению или назначению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52280" y="2895480"/>
            <a:ext cx="4724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Маленький, беленький, </a:t>
            </a:r>
            <a:br>
              <a:rPr sz="2000"/>
            </a:b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По лесочку прыг-прыг! </a:t>
            </a:r>
            <a:br>
              <a:rPr sz="2000"/>
            </a:b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По снежочку тык-тык! 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3"/>
          <a:stretch/>
        </p:blipFill>
        <p:spPr>
          <a:xfrm>
            <a:off x="4419720" y="3505320"/>
            <a:ext cx="2504880" cy="2857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dur="indefinite" fill="hold">
                      <p:stCondLst>
                        <p:cond delay="indefinite"/>
                      </p:stCondLst>
                      <p:childTnLst>
                        <p:par>
                          <p:cTn id="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dur="indefinite" fill="hold">
                      <p:stCondLst>
                        <p:cond delay="indefinite"/>
                      </p:stCondLst>
                      <p:childTnLst>
                        <p:par>
                          <p:cTn id="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0" y="304920"/>
            <a:ext cx="7386480" cy="28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80000"/>
              </a:lnSpc>
              <a:spcBef>
                <a:spcPts val="700"/>
              </a:spcBef>
              <a:buSzPct val="117264"/>
              <a:buBlip>
                <a:blip r:embed="rId1"/>
              </a:buBlip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равните предмет загадки и предмет отгад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799"/>
              </a:spcBef>
              <a:buSzPct val="117264"/>
              <a:buBlip>
                <a:blip r:embed="rId2"/>
              </a:buBlip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зовите признаки загаданного предмета по цвету, форме, поведению или назначению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09480" y="2895480"/>
            <a:ext cx="5410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Над лугом парашютики</a:t>
            </a:r>
            <a:br>
              <a:rPr sz="2400"/>
            </a:b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Качаются на прутике.</a:t>
            </a: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1729080" cy="259092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>
            <a:off x="4495680" y="2743200"/>
            <a:ext cx="2743200" cy="365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dur="indefinite" fill="hold">
                      <p:stCondLst>
                        <p:cond delay="indefinite"/>
                      </p:stCondLst>
                      <p:childTnLst>
                        <p:par>
                          <p:cTn id="5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dur="indefinite" fill="hold">
                      <p:stCondLst>
                        <p:cond delay="indefinite"/>
                      </p:stCondLst>
                      <p:childTnLst>
                        <p:par>
                          <p:cTn id="6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dur="indefinite" fill="hold">
                      <p:stCondLst>
                        <p:cond delay="indefinite"/>
                      </p:stCondLst>
                      <p:childTnLst>
                        <p:par>
                          <p:cTn id="7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219240" y="204840"/>
            <a:ext cx="747684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30605a"/>
                </a:solidFill>
                <a:latin typeface="Arial"/>
              </a:rPr>
              <a:t>Что можно сказать о людях, сочинивших такие загадки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39840"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н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блюдательн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этичн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 них богатое воображ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dur="indefinite" fill="hold">
                      <p:stCondLst>
                        <p:cond delay="indefinite"/>
                      </p:stCondLst>
                      <p:childTnLst>
                        <p:par>
                          <p:cTn id="7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dur="indefinite" fill="hold">
                      <p:stCondLst>
                        <p:cond delay="indefinite"/>
                      </p:stCondLst>
                      <p:childTnLst>
                        <p:par>
                          <p:cTn id="8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dur="indefinite" fill="hold">
                      <p:stCondLst>
                        <p:cond delay="indefinite"/>
                      </p:stCondLst>
                      <p:childTnLst>
                        <p:par>
                          <p:cTn id="9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219240" y="227160"/>
            <a:ext cx="74768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30605a"/>
                </a:solidFill>
                <a:latin typeface="Arial"/>
              </a:rPr>
              <a:t>Составление загадо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63520" y="1598760"/>
            <a:ext cx="7386480" cy="510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 петрушк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 свёкл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 тыкв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4"/>
          <a:stretch/>
        </p:blipFill>
        <p:spPr>
          <a:xfrm>
            <a:off x="3429000" y="1295280"/>
            <a:ext cx="1676520" cy="125568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5"/>
          <a:stretch/>
        </p:blipFill>
        <p:spPr>
          <a:xfrm>
            <a:off x="2971800" y="2819520"/>
            <a:ext cx="1752480" cy="175248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6"/>
          <a:stretch/>
        </p:blipFill>
        <p:spPr>
          <a:xfrm>
            <a:off x="2590920" y="4686480"/>
            <a:ext cx="1904760" cy="1904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dur="indefinite" fill="hold">
                      <p:stCondLst>
                        <p:cond delay="indefinite"/>
                      </p:stCondLst>
                      <p:childTnLst>
                        <p:par>
                          <p:cTn id="9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dur="indefinite" fill="hold">
                      <p:stCondLst>
                        <p:cond delay="indefinite"/>
                      </p:stCondLst>
                      <p:childTnLst>
                        <p:par>
                          <p:cTn id="10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dur="indefinite" fill="hold">
                      <p:stCondLst>
                        <p:cond delay="indefinite"/>
                      </p:stCondLst>
                      <p:childTnLst>
                        <p:par>
                          <p:cTn id="11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dur="indefinite" fill="hold">
                      <p:stCondLst>
                        <p:cond delay="indefinite"/>
                      </p:stCondLst>
                      <p:childTnLst>
                        <p:par>
                          <p:cTn id="11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dur="indefinite" fill="hold">
                      <p:stCondLst>
                        <p:cond delay="indefinite"/>
                      </p:stCondLst>
                      <p:childTnLst>
                        <p:par>
                          <p:cTn id="12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219240" y="227160"/>
            <a:ext cx="74768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30605a"/>
                </a:solidFill>
                <a:latin typeface="Arial"/>
              </a:rPr>
              <a:t>Продолжи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28600" y="1371600"/>
            <a:ext cx="3505320" cy="91440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 спеши языком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809880" y="1371600"/>
            <a:ext cx="3505320" cy="91440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оропись дел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28600" y="2438280"/>
            <a:ext cx="3505320" cy="914400"/>
          </a:xfrm>
          <a:prstGeom prst="roundRect">
            <a:avLst>
              <a:gd name="adj" fmla="val 16667"/>
            </a:avLst>
          </a:prstGeom>
          <a:solidFill>
            <a:srgbClr val="cc99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 пером пишут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809880" y="2438280"/>
            <a:ext cx="3505320" cy="914400"/>
          </a:xfrm>
          <a:prstGeom prst="roundRect">
            <a:avLst>
              <a:gd name="adj" fmla="val 16667"/>
            </a:avLst>
          </a:prstGeom>
          <a:solidFill>
            <a:srgbClr val="cc99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 ум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28600" y="3505320"/>
            <a:ext cx="3505320" cy="9144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най больш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809880" y="3505320"/>
            <a:ext cx="3505320" cy="9144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овори меньш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28600" y="4572000"/>
            <a:ext cx="3505320" cy="9144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аленькое дел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809880" y="4572000"/>
            <a:ext cx="3505320" cy="9144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учше большог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ездель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28600" y="5638680"/>
            <a:ext cx="3505320" cy="91440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ов мастер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809880" y="5638680"/>
            <a:ext cx="3505320" cy="91440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акова и рабо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dur="indefinite" fill="hold">
                      <p:stCondLst>
                        <p:cond delay="indefinite"/>
                      </p:stCondLst>
                      <p:childTnLst>
                        <p:par>
                          <p:cTn id="13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dur="indefinite" fill="hold">
                      <p:stCondLst>
                        <p:cond delay="indefinite"/>
                      </p:stCondLst>
                      <p:childTnLst>
                        <p:par>
                          <p:cTn id="13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dur="indefinite" fill="hold">
                      <p:stCondLst>
                        <p:cond delay="indefinite"/>
                      </p:stCondLst>
                      <p:childTnLst>
                        <p:par>
                          <p:cTn id="14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dur="indefinite" fill="hold">
                      <p:stCondLst>
                        <p:cond delay="indefinite"/>
                      </p:stCondLst>
                      <p:childTnLst>
                        <p:par>
                          <p:cTn id="14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dur="indefinite" fill="hold">
                      <p:stCondLst>
                        <p:cond delay="indefinite"/>
                      </p:stCondLst>
                      <p:childTnLst>
                        <p:par>
                          <p:cTn id="15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dur="indefinite" fill="hold">
                      <p:stCondLst>
                        <p:cond delay="indefinite"/>
                      </p:stCondLst>
                      <p:childTnLst>
                        <p:par>
                          <p:cTn id="16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dur="indefinite" fill="hold">
                      <p:stCondLst>
                        <p:cond delay="indefinite"/>
                      </p:stCondLst>
                      <p:childTnLst>
                        <p:par>
                          <p:cTn id="16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dur="indefinite" fill="hold">
                      <p:stCondLst>
                        <p:cond delay="indefinite"/>
                      </p:stCondLst>
                      <p:childTnLst>
                        <p:par>
                          <p:cTn id="17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dur="indefinite" fill="hold">
                      <p:stCondLst>
                        <p:cond delay="indefinite"/>
                      </p:stCondLst>
                      <p:childTnLst>
                        <p:par>
                          <p:cTn id="17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dur="indefinite" fill="hold">
                      <p:stCondLst>
                        <p:cond delay="indefinite"/>
                      </p:stCondLst>
                      <p:childTnLst>
                        <p:par>
                          <p:cTn id="18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219240" y="227160"/>
            <a:ext cx="74768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30605a"/>
                </a:solidFill>
                <a:latin typeface="Arial"/>
              </a:rPr>
              <a:t>Источни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80000"/>
              </a:lnSpc>
              <a:spcBef>
                <a:spcPts val="451"/>
              </a:spcBef>
              <a:buSzPct val="183127"/>
              <a:buBlip>
                <a:blip r:embed="rId1"/>
              </a:buBlip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рковь - </a:t>
            </a:r>
            <a:r>
              <a:rPr b="0" lang="ru-RU" sz="18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http://www.lenagold.ru/fon/clipart/m/mork/mork18.png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51"/>
              </a:spcBef>
              <a:buSzPct val="183127"/>
              <a:buBlip>
                <a:blip r:embed="rId3"/>
              </a:buBlip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ртрет девушки - </a:t>
            </a:r>
            <a:r>
              <a:rPr b="0" lang="ru-RU" sz="1800" spc="-1" strike="noStrike" u="sng">
                <a:solidFill>
                  <a:srgbClr val="ccccff"/>
                </a:solidFill>
                <a:uFillTx/>
                <a:latin typeface="Arial"/>
                <a:hlinkClick r:id="rId4"/>
              </a:rPr>
              <a:t>http://img0.liveinternet.ru/images/attach/c/7/94/575/94575304_565490722.jpg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51"/>
              </a:spcBef>
              <a:buSzPct val="183127"/>
              <a:buBlip>
                <a:blip r:embed="rId5"/>
              </a:buBlip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йка - </a:t>
            </a:r>
            <a:r>
              <a:rPr b="0" lang="ru-RU" sz="1800" spc="-1" strike="noStrike" u="sng">
                <a:solidFill>
                  <a:srgbClr val="ccccff"/>
                </a:solidFill>
                <a:uFillTx/>
                <a:latin typeface="Arial"/>
                <a:hlinkClick r:id="rId6"/>
              </a:rPr>
              <a:t>http://swetlanka.ru/wp-content/uploads/2009/04/zaya.gi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51"/>
              </a:spcBef>
              <a:buSzPct val="183127"/>
              <a:buBlip>
                <a:blip r:embed="rId7"/>
              </a:buBlip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арашют - </a:t>
            </a:r>
            <a:r>
              <a:rPr b="0" lang="ru-RU" sz="1800" spc="-1" strike="noStrike" u="sng">
                <a:solidFill>
                  <a:srgbClr val="ccccff"/>
                </a:solidFill>
                <a:uFillTx/>
                <a:latin typeface="Arial"/>
                <a:hlinkClick r:id="rId8"/>
              </a:rPr>
              <a:t>http://www.happiness-shop.ru/userfiles/image/test_folder/2-parachute-v-nebe-1024.jpg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51"/>
              </a:spcBef>
              <a:buSzPct val="183127"/>
              <a:buBlip>
                <a:blip r:embed="rId9"/>
              </a:buBlip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трушка - </a:t>
            </a:r>
            <a:r>
              <a:rPr b="0" lang="ru-RU" sz="1800" spc="-1" strike="noStrike" u="sng">
                <a:solidFill>
                  <a:srgbClr val="ccccff"/>
                </a:solidFill>
                <a:uFillTx/>
                <a:latin typeface="Arial"/>
                <a:hlinkClick r:id="rId10"/>
              </a:rPr>
              <a:t>http://img0.liveinternet.ru/images/attach/c/0/44/45/44045020_1242642872_4.jpg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51"/>
              </a:spcBef>
              <a:buSzPct val="183127"/>
              <a:buBlip>
                <a:blip r:embed="rId11"/>
              </a:buBlip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вёкла - </a:t>
            </a:r>
            <a:r>
              <a:rPr b="0" lang="ru-RU" sz="1800" spc="-1" strike="noStrike" u="sng">
                <a:solidFill>
                  <a:srgbClr val="ccccff"/>
                </a:solidFill>
                <a:uFillTx/>
                <a:latin typeface="Arial"/>
                <a:hlinkClick r:id="rId12"/>
              </a:rPr>
              <a:t>http://img0.liveinternet.ru/images/attach/c/3/76/80/76080094_21.jpg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51"/>
              </a:spcBef>
              <a:buSzPct val="183127"/>
              <a:buBlip>
                <a:blip r:embed="rId13"/>
              </a:buBlip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ыква - </a:t>
            </a:r>
            <a:r>
              <a:rPr b="0" lang="ru-RU" sz="1800" spc="-1" strike="noStrike" u="sng">
                <a:solidFill>
                  <a:srgbClr val="ccccff"/>
                </a:solidFill>
                <a:uFillTx/>
                <a:latin typeface="Arial"/>
                <a:hlinkClick r:id="rId14"/>
              </a:rPr>
              <a:t>http://www.nadietax.com/uploads/posts/2013-05/2013-09/1378723867_Tykva.png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user</dc:creator>
  <dc:description/>
  <dc:language>en-US</dc:language>
  <cp:lastModifiedBy>user</cp:lastModifiedBy>
  <dcterms:modified xsi:type="dcterms:W3CDTF">2016-09-16T09:22:57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